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4825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2F3-0875-4698-9CE6-49357F85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D01-F4C3-41A9-8C40-EE3AFE64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7F8-14FC-4CBA-9542-1D206828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4E4-D575-494E-9734-A61B71B6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D06-8AA2-4682-A80E-E7BEF001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9B3-C127-4EF0-89D7-EC5E7B91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E9E3-B02E-4ABA-B1BC-E1CC6DB2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A75-9783-4A14-ACFC-379A30AD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786-4FE5-4EC4-B982-9EE17A8B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BB8A-F7D6-4B21-B3D4-F777C49C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E0C-46F8-492E-8687-A63D5656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3FF-7A48-4046-B6BC-48562C93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9B8A-1BE3-46D2-863E-19D9F269D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If you want better answers, ask better questions.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pplying</a:t>
            </a:r>
            <a:br>
              <a:rPr sz="4800"/>
            </a:b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learner makes use of information in a context different from the one in which it was learned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86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lement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rying ou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ecut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n you use the information in another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amiliar situation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635200" cy="300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410080" y="1143000"/>
            <a:ext cx="3429000" cy="2971800"/>
          </a:xfrm>
          <a:prstGeom prst="irregularSeal1">
            <a:avLst/>
          </a:prstGeom>
          <a:gradFill rotWithShape="0">
            <a:gsLst>
              <a:gs pos="0">
                <a:srgbClr val="333399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pplying cont’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ipul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hibi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llustr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lcul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pre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acti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l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per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view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1371600"/>
            <a:ext cx="4952880" cy="54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mon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tr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a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r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9810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strategies, concepts, principles and theories in new si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4191120"/>
            <a:ext cx="3429000" cy="33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oducts inclu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hotogra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ulp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monst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4343400"/>
            <a:ext cx="190512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ournal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assroom Roles for Applying 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eacher ro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w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cilit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bserv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valu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rganiz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uestions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tudent ro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lves proble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monstrates use of knowledg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lcul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i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le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llustrate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struct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ive recipi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800" spc="-1" strike="noStrike">
                <a:solidFill>
                  <a:srgbClr val="ffffff"/>
                </a:solidFill>
                <a:latin typeface="Arial"/>
              </a:rPr>
              <a:t>Analyzing</a:t>
            </a:r>
            <a:br>
              <a:rPr sz="4800"/>
            </a:b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learner breaks learned information into its parts to best understand that informatio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Compar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Organiz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Deconstruc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Attribu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Outlin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Find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Structur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Integra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Can you break information into parts to explore understandings and relationships?</a:t>
            </a: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91240" y="2209680"/>
            <a:ext cx="2633760" cy="375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410080" y="1143000"/>
            <a:ext cx="3429000" cy="2971800"/>
          </a:xfrm>
          <a:prstGeom prst="irregularSeal1">
            <a:avLst/>
          </a:prstGeom>
          <a:gradFill rotWithShape="0">
            <a:gsLst>
              <a:gs pos="0">
                <a:srgbClr val="333399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nalysing cont’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tinguis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rai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perim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par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qui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rang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stig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f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lcul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-30852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iticize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289160"/>
            <a:ext cx="4953240" cy="55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r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t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b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s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tego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crimin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19810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eaking information down into its component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4191120"/>
            <a:ext cx="342900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oducts inclu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eck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ut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4343400"/>
            <a:ext cx="190512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port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assroom Roles for Analyzing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Teacher ro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b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uid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bserv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valuat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ts as a resour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rgani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ssect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tudent ro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scus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cover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gu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bat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inks deepl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es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in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alculat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vestigat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quir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tive participant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valuating</a:t>
            </a:r>
            <a:br>
              <a:rPr sz="4000"/>
            </a:b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earner makes decisions based on in-depth reflection, criticism and assessment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Check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Hypothesis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Critiqu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Experimen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Judg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Detec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  </a:t>
            </a: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Can you justify a decision or course of action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70684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410080" y="1143000"/>
            <a:ext cx="3429000" cy="2971800"/>
          </a:xfrm>
          <a:prstGeom prst="irregularSeal1">
            <a:avLst/>
          </a:prstGeom>
          <a:gradFill rotWithShape="0">
            <a:gsLst>
              <a:gs pos="0">
                <a:srgbClr val="333399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valuating cont’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udg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lid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di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se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o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vi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f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term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oriti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ell wh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a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fen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le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-2880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asu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1371600"/>
            <a:ext cx="4952880" cy="55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b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us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mm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cri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r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riti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182880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dging the value of ideas, materials and methods by developing and applying standards and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191120"/>
            <a:ext cx="34290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oducts inclu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4343400"/>
            <a:ext cx="190512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ves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d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ersuasive speech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assroom Roles for Evaluating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eacher ro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arif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cep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uide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udent ro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Judg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sput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par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ritiqu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rgu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sses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cid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lects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Justif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tive participan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reating</a:t>
            </a:r>
            <a:br>
              <a:rPr sz="4800"/>
            </a:b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earner creates new ideas and information using what has been previously learned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Design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Construc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Produc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Inven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Devis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Mak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Can you generate new products, ideas, or ways of viewing things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25002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udents are engaged only in lower-order thinking; i.e. they receive, or recite, or participate in routine practice.  In no activities during the lesson do students go beyond simple reproduction of knowledge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udents are primarily engaged in routine lower-order thinking for a good share of the lesson.  There is at least one significant question or activity in which some students perform some higher-order thinking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most all students, almost all of the time are engaged in higher-order thinking. 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410080" y="1143000"/>
            <a:ext cx="3429000" cy="2971800"/>
          </a:xfrm>
          <a:prstGeom prst="irregularSeal1">
            <a:avLst/>
          </a:prstGeom>
          <a:gradFill rotWithShape="0">
            <a:gsLst>
              <a:gs pos="0">
                <a:srgbClr val="333399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reating cont’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o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semb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rgani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i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ecas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vi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po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tru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pa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velop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rigin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ag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ner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371600"/>
            <a:ext cx="495288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m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d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l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v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co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90512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tting together ideas or elements to develop a original idea or engage in creative thin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191120"/>
            <a:ext cx="342900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oducts inclu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4343400"/>
            <a:ext cx="190512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s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dia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vert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inting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7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assroom Roles for Creating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Teacher rol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acilitat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tend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flec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aly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valuates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tudent ro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sig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ul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a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kes risk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dif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re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pos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ive participa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5400" spc="-1" strike="noStrike">
                <a:solidFill>
                  <a:srgbClr val="333399"/>
                </a:solidFill>
                <a:latin typeface="Arial"/>
              </a:rPr>
              <a:t>A good teacher makes you think even when you don’t want to.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99"/>
                </a:solidFill>
                <a:latin typeface="Arial"/>
              </a:rPr>
              <a:t>(Fisher, 1998, </a:t>
            </a:r>
            <a:r>
              <a:rPr b="1" i="1" lang="en-AU" sz="3600" spc="-1" strike="noStrike">
                <a:solidFill>
                  <a:srgbClr val="333399"/>
                </a:solidFill>
                <a:latin typeface="Arial"/>
              </a:rPr>
              <a:t>Teaching Thinking</a:t>
            </a:r>
            <a:r>
              <a:rPr b="0" lang="en-A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AU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1447920"/>
            <a:ext cx="2743200" cy="4876560"/>
          </a:xfrm>
          <a:prstGeom prst="upArrow">
            <a:avLst>
              <a:gd name="adj1" fmla="val 50000"/>
              <a:gd name="adj2" fmla="val 44442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447920"/>
            <a:ext cx="2743200" cy="4876560"/>
          </a:xfrm>
          <a:prstGeom prst="upArrow">
            <a:avLst>
              <a:gd name="adj1" fmla="val 50000"/>
              <a:gd name="adj2" fmla="val 44442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Original Terms            New Term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ynthes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plic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rehens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1752480"/>
            <a:ext cx="358128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r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alu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aly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p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memb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07400">
            <a:off x="3580920" y="2133720"/>
            <a:ext cx="1752840" cy="457200"/>
          </a:xfrm>
          <a:prstGeom prst="rightArrow">
            <a:avLst>
              <a:gd name="adj1" fmla="val 50000"/>
              <a:gd name="adj2" fmla="val 958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9867800">
            <a:off x="3581280" y="2285640"/>
            <a:ext cx="1752840" cy="457200"/>
          </a:xfrm>
          <a:prstGeom prst="rightArrow">
            <a:avLst>
              <a:gd name="adj1" fmla="val 50000"/>
              <a:gd name="adj2" fmla="val 958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34290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41911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50292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ed7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586728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4771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Based on Pohl, 2000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earning to Think, Thinking to Learn, p. 8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Remembering</a:t>
            </a:r>
            <a:br>
              <a:rPr sz="4000"/>
            </a:b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earner is able to recall, restate and remember learned information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Recognis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Lis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Describ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Identify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Retriev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Nam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Loca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2040" indent="-21996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Find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  </a:t>
            </a: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Can you recall information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373560" cy="3772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410080" y="1143000"/>
            <a:ext cx="3429000" cy="2971800"/>
          </a:xfrm>
          <a:prstGeom prst="irregularSeal1">
            <a:avLst/>
          </a:prstGeom>
          <a:gradFill rotWithShape="0">
            <a:gsLst>
              <a:gs pos="0">
                <a:srgbClr val="333399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membering cont’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List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Memorise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Relate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Show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Locate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Distinguish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Give example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Reproduce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Quote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Repeat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Label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Recall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Know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Group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Read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Write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7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4952880" cy="54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der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19810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ll or recognition of specific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4191120"/>
            <a:ext cx="342900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oducts inclu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4343400"/>
            <a:ext cx="190512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ocabulary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assroom Roles for Remembering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eacher ro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rec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l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w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in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valuate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tudent ro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spon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sorb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member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ognis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moris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fin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scrib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tel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ssive recipi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Understanding</a:t>
            </a:r>
            <a:br>
              <a:rPr sz="4000"/>
            </a:b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learner grasps the meaning of information by interpreting and translating what has been learned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Interpre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Exemplify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Summaris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Inferr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Classify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Compar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Arial"/>
              </a:rPr>
              <a:t>Explain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  </a:t>
            </a:r>
            <a:r>
              <a:rPr b="0" lang="en-AU" sz="2800" spc="-1" strike="noStrike">
                <a:solidFill>
                  <a:srgbClr val="333399"/>
                </a:solidFill>
                <a:latin typeface="Arial"/>
              </a:rPr>
              <a:t>Can you explain ideas or concepts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384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410080" y="1143000"/>
            <a:ext cx="3429000" cy="2971800"/>
          </a:xfrm>
          <a:prstGeom prst="irregularSeal1">
            <a:avLst/>
          </a:prstGeom>
          <a:gradFill rotWithShape="0">
            <a:gsLst>
              <a:gs pos="0">
                <a:srgbClr val="333399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Understanding cont’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st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cu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el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not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 examples of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aphra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organi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soci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1371600"/>
            <a:ext cx="4952880" cy="63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gn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b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oun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p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f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2057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standing of give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191120"/>
            <a:ext cx="342900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oducts inclu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pla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ow and t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8880" y="4343400"/>
            <a:ext cx="190512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utline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assroom Roles for Understanding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eacher ro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monstr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iste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ar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tras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ines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tudent ro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plai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scrib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utlin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st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ransl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monstr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rpre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ive participa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10:42:59Z</dcterms:created>
  <dc:creator>Denise Margaret Tarlinton</dc:creator>
  <dc:description/>
  <dc:language>en-US</dc:language>
  <cp:lastModifiedBy>ccps</cp:lastModifiedBy>
  <dcterms:modified xsi:type="dcterms:W3CDTF">2010-04-26T18:10:08Z</dcterms:modified>
  <cp:revision>89</cp:revision>
  <dc:subject/>
  <dc:title>BLOOM’s REVISED TAXONOMY</dc:title>
</cp:coreProperties>
</file>